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1.png" ContentType="image/png"/>
  <Override PartName="/ppt/media/image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2.png" ContentType="image/png"/>
  <Override PartName="/ppt/media/image50.jpeg" ContentType="image/jpeg"/>
  <Override PartName="/ppt/media/image25.jpeg" ContentType="image/jpeg"/>
  <Override PartName="/ppt/media/image37.jpeg" ContentType="image/jpeg"/>
  <Override PartName="/ppt/media/image60.jpeg" ContentType="image/jpeg"/>
  <Override PartName="/ppt/media/image36.jpeg" ContentType="image/jpeg"/>
  <Override PartName="/ppt/media/image23.jpeg" ContentType="image/jpeg"/>
  <Override PartName="/ppt/media/image12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24.gif" ContentType="image/gif"/>
  <Override PartName="/ppt/media/image32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5.jpeg" ContentType="image/jpeg"/>
  <Override PartName="/ppt/media/image19.wmf" ContentType="image/x-wmf"/>
  <Override PartName="/ppt/media/image57.wmf" ContentType="image/x-wmf"/>
  <Override PartName="/ppt/media/image14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18.gif" ContentType="image/gif"/>
  <Override PartName="/ppt/media/image58.jpeg" ContentType="image/jpeg"/>
  <Override PartName="/ppt/media/image13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4.jpeg" ContentType="image/jpeg"/>
  <Override PartName="/ppt/media/image3.jpeg" ContentType="image/jpeg"/>
  <Override PartName="/ppt/media/image41.png" ContentType="image/png"/>
  <Override PartName="/ppt/media/image42.png" ContentType="image/png"/>
  <Override PartName="/ppt/media/image43.jpeg" ContentType="image/jpeg"/>
  <Override PartName="/ppt/media/image44.wmf" ContentType="image/x-wmf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4.jpeg" ContentType="image/jpeg"/>
  <Override PartName="/ppt/media/image51.png" ContentType="image/png"/>
  <Override PartName="/ppt/media/image53.jpeg" ContentType="image/jpeg"/>
  <Override PartName="/ppt/media/image33.png" ContentType="image/png"/>
  <Override PartName="/ppt/media/image54.jpeg" ContentType="image/jpeg"/>
  <Override PartName="/ppt/media/image55.jpeg" ContentType="image/jpeg"/>
  <Override PartName="/ppt/media/image40.jpeg" ContentType="image/jpeg"/>
  <Override PartName="/ppt/media/image5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128-1DA9-4740-AA49-93E77FCC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70E-5475-434D-871B-035BD998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9832C0-5716-4657-9EF8-991AF902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3A8304-27B1-4FD0-A240-23F898BC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8EED0C-AA2A-4ABE-8275-73197272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80A48C-8633-40F4-9105-E95CF380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EE3945-D879-4692-9B9D-A25734F2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67CDD9-DE58-40A6-BEFC-3571D2E0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557FAF-DE55-4A2A-878D-8A8FC03D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AF176A-5E16-4D6A-BD66-48EFB9A6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CB4F6A-BDC7-4B32-9870-2FD61893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96F19-2DF6-4D45-A5A7-485A4E2F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6717-6544-45EA-8AD0-CD7DF578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58BBB-1514-4011-A4EB-FE9059B6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EB7B9-D62C-48BD-B5FC-A8E46692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7EC8B-79F1-438D-886D-DE4DB718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02971-5D01-43DB-B7D3-A93F614F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A0A81-99AC-474A-80B7-77E25FBC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F15DD-7B52-4109-8ED5-66FD33FD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816EF-FDBF-4589-BEF4-F82A8886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AAF6C-FDDB-4A59-8532-51FB5538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50517-7F5E-43A6-B7F1-B70E3249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E68DE-44FF-4101-9E71-EFD106D5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AA7-61AE-4A20-9C28-E8130E06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CC231-EF80-4880-AB33-00D8FD89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FEEAB5-B00F-469A-A864-96D76051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9D16CF-C1B3-493A-AB0A-585EDC50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CA34AF-C5AB-45E1-81E9-057D966E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C4F91D-611F-4943-825B-38400BBB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AA1DB3-B940-47B2-8061-A3185D0A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FB293A-B083-4D71-8717-B9F01D2D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48FA9D-E85D-405A-9516-5DCBB2B8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D5EE68-9D76-4E75-926D-EAE8A26C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6FCBA1-5B6C-4E58-9FB5-5B6EC59A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6946-4C61-436D-A7C3-7620ECD7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327268-EA7A-4D14-8F3A-53372304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618045-48DA-492D-A869-3BC9AC22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756ECF-1A33-41A3-9653-16C60559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46D1C-01B1-4A6E-9E96-9A1D851F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49332-E54A-429B-8381-D73D43FA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72301-5B76-4D17-90F7-45B25076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13EA8-D057-4BF3-A598-6354C6F1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1AAF4-512F-4699-97F6-FE28CC4F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5A6E3-4B16-4BD9-9B3D-A3F3098C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C3914-B859-4A42-AABC-A99B4AC6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7F11-2556-4900-BF69-3822B684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9B2B7-5BD2-493A-A19E-D955AAA9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84B15-2C31-4D42-A3FB-FB1EEDD7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AF656-2EA8-414F-B5CC-215A2433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D03D2-266E-495A-948C-918BC411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34D2D-B827-44C0-B78C-FB1C286F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CD345-E9DC-48B8-9344-39D46941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E0354-618B-49DC-AABB-8674DAC2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209E1A-00A4-4E32-B2D7-38B3C010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2C6F8-2DA3-4BDD-8826-F00D1562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25DDA-1B10-4E9E-B6DA-1883C04D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E81A-AB36-46D7-A93F-FDFB3976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8CDFE-22F1-43D8-B3A2-C0CF43AE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C83A9-6604-4BC9-B7B0-4C4B5A8B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FABA1-BF86-4A75-BE5A-232F1656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4849B-FF47-46C2-B054-207776F2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67D5F-5C86-47C2-AA60-4F2CB42F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57D3B-3AC9-42AF-BEEF-FF3DFD18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02034-5AC4-48A5-AF6C-67EBD02F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28D14F-0ACC-416E-933B-B24B1E02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E2D045-1A4E-4B17-853F-EC1B5DC6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9BE289-5E64-41D5-A1DB-A02DBD29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6642-CFC1-4EAA-8DE8-349331CD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7E7074-C0AB-4CD9-BCDA-06AD11AF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206683-DDBA-4F6A-8E40-7AA77420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BE16A4-33B2-4C5A-B100-0C780C62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E84DAF-8D33-4B55-8309-13111749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56A6FB-5437-451D-A090-ADD38115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51EE84-727C-4113-ABFB-234E21AF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FD1AEF-6298-424F-B5D9-85FD31E2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307E29-15D4-4C34-905F-805B9A59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9F49E6-D51C-4E17-8736-1575CB85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5A55-46FB-45C4-9253-051C639A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4D17-8FD2-4BD4-BAC8-8043EDFA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DD4D-5BEE-46F7-A839-0908955C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B42-9681-424D-AA66-BF58482C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2545-18A5-4B01-876D-2A9EC194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1461-0B01-4779-8383-0D075179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6F57-EB66-487F-88BA-B0AE319F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C5DA-6FE2-4107-B71A-6810618C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F7F5-BF47-4F6A-8A73-D12012F5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5B7CF-0D54-4219-A03A-8BC58C86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5C7F4-AAFE-4D35-B891-33D25722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4F042-0601-48DC-B720-E69DDA73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C9DD4-4A6F-4AC9-82AC-6951B729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A37D7-D084-4ADB-A993-3C76BAEA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2C12-FE9A-4CC6-9EC5-B37BEAEE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6B894-BD3D-4783-8D4F-71A46DFC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AA280-DC07-46D4-91E0-FBE01256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803E3-9B7E-4F6B-831D-ACB3028B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91E6A-8D9E-4130-82A5-03143880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58DB9-9820-48EB-BFA1-C2FB0F52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8A763-02DE-4EEB-A5A9-B47749E2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3B2BF-AE03-441B-89DE-520228E0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4BA9A-9DD7-4D6F-834F-3A8F5FA6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43E8F-F3CA-4EBC-8DB3-703D4D50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66DE1-816E-4893-94E1-225F453E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634-D939-4683-82D9-D5BA3951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619D5-44EC-4326-A8F6-DCC0BBCC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8CD84-5BEA-4EC7-89C0-C8CAC0CF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D263D-7DC2-4478-AED9-A2056228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79B71-422C-43F2-BDE0-293AB0BD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F7E10-4DE8-4C16-ACDA-FBC46626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20728-E578-4E49-99E9-068AEA6C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53B6B-2F48-455F-BF5E-142F6CB3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462D1-276E-4868-AECB-73D2B5BD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C2F22-AD3C-4878-AFC0-7813ED1F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D48AB-5C1C-4161-9DE8-04E8CD3D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21DD-CA7E-4E85-8E0F-BFB0B437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4AA1A-38E4-465B-A0F6-03A2EA7F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9DE1A-0E04-41B7-8C02-B752D6E7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22627-214D-4357-8C80-23C95376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1BA05-660D-4931-A91D-DC8775D6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E0A01-F111-4078-969D-429CE9F0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BA9EA-ECB4-45B4-BE16-1FBA12A5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99EA6-FA47-4742-B0AD-079389C4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2EFF9-724C-446B-B20F-8E95FCA5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58038-3F9E-428E-8E95-916636D6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55DF3-F403-4E8C-94DB-3F8AEFF6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4CC-12B7-4C6B-9F67-C0265CE6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1B139-7B96-4CA3-B543-D505E036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5DC69-4AE2-43F2-A843-09CAE9A8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B4C81-7333-4FA1-AD1C-1356A2A0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E2DCE-E2C6-4EA8-A3AF-C4B55AD8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9EF09-C90C-40A6-8F89-C2D244BE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9200C-5E48-425C-9BAB-AB93400F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6C684-B5C2-4AC0-BB81-8761F742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98E46-8981-4103-8B30-AEC005C7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46D4A-6B19-45B8-B295-82BCB1C8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3B260-E8B1-4A7F-9195-A7A39B2A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061-98D3-4B23-A992-A9DE56BA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5A8C1-B991-4DF3-9429-1D333187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77F14-6D3F-4CDD-B5C4-EC6AF424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90CC8-5C14-4C09-B4C8-CC1CEA21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80B5B-950C-49E1-8DE9-FBB86136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D2475-E9D3-4F55-9505-F5283BF9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F8C9D-6859-4F0C-8736-8EB1D021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0D5C8-A079-45B5-A13F-BCF0C55F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03659-8006-41EC-B0A0-59A88DB8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093F2-95CE-4C26-BB88-AB836042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D8803-CAEF-461C-B93D-1E479117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883-993B-460C-BF1E-FC9D94A7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7BCCE-9260-4DC2-9A75-96B1EE9F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6B76E-4F31-4999-BB84-D2FC4241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545C1-E8F2-4E22-9082-46F1E616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1771A-FD10-421E-BF99-35AE73DD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60DAF-4BEF-4AB0-A1CA-A0D698D3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16924D-5C59-4DD2-98FE-BEBD0447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2C1D46-8A5C-4837-BB77-A5A00ED9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DFB061-ABAF-4F49-BA2E-E80E83D0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CF215F-81B3-48EB-BBF7-B417E619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D1E904-44B2-44A6-859C-097E37F4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D09-F441-4CA9-A52E-C6459CD0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826E15-A09B-47FA-ACE3-DD7ADD19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5A5452-D61E-4326-A871-257AEB2B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716D06-25DF-4097-B2F3-00D95207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66C725-3FCE-4688-B6C0-342A12B5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B646C1-E6EF-4C57-8CE7-649B8D6A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8A5D25-5846-418D-AB22-EF4CD369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5C861E-A485-4C86-A024-4CA7AA30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A40649-BE02-4F8B-A91D-34996E32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712CBF-B5C2-4D90-A519-C6F08D0D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DA0BF8-4AD4-47DF-89DE-9C651AC0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467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d467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C608-5647-45D1-B9A2-BC484FC91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8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8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4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016E-A5FA-4A65-97BE-6AC8132C89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5310-6942-4070-AB8D-9181FDA09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3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3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8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8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AE26-5C13-47FD-A1E8-2509CA81F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2101-6EC4-4C65-9F39-0D36C8917D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2543-0209-45E6-98D0-548563332A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467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d467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4699-2612-4D21-B099-5C3840B50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EA80-7EB8-4404-B877-0261592229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650E-5813-4853-B3F7-0699E8CA4C22}" type="slidenum">
              <a:rPr b="0" lang="en-US" sz="1400" spc="-1" strike="noStrike">
                <a:solidFill>
                  <a:srgbClr val="5d2204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D4F9-FFFB-4AB5-B68A-8B7D9BEC9776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6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8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A425-6FCA-441F-9B9D-7094257358F0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B690-0126-4A9B-9617-C22BEE6DD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0CFB-0119-4657-8621-A915D1339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EB12-A189-4825-B513-6FAA439FF2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3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9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5.jpeg"/><Relationship Id="rId6" Type="http://schemas.openxmlformats.org/officeDocument/2006/relationships/image" Target="../media/image55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nergyquest.ca.gov/story/index.html#table" TargetMode="External"/><Relationship Id="rId2" Type="http://schemas.openxmlformats.org/officeDocument/2006/relationships/hyperlink" Target="http://www.ucsusa.org/clean_energy/renewable_energy_basics/offmen-how-biomass-energy-works.html#Converting_Biomass_to_Energy" TargetMode="External"/><Relationship Id="rId3" Type="http://schemas.openxmlformats.org/officeDocument/2006/relationships/hyperlink" Target="http://www.ucsusa.org/clean_energy/renewable_energy_basics/offmen-how-biomass-energy-works.html#Converting_Biomass_to_Energy" TargetMode="External"/><Relationship Id="rId4" Type="http://schemas.openxmlformats.org/officeDocument/2006/relationships/hyperlink" Target="http://www.ucsusa.org/clean_energy/renewable_energy_basics/offmen-how-biomass-energy-works.html#Converting_Biomass_to_Energy" TargetMode="External"/><Relationship Id="rId5" Type="http://schemas.openxmlformats.org/officeDocument/2006/relationships/hyperlink" Target="http://www.treepower.org/" TargetMode="External"/><Relationship Id="rId6" Type="http://schemas.openxmlformats.org/officeDocument/2006/relationships/hyperlink" Target="http://www.hnei.hawaii.edu/bio.assess.asp" TargetMode="External"/><Relationship Id="rId7" Type="http://schemas.openxmlformats.org/officeDocument/2006/relationships/hyperlink" Target="http://www.hnei.hawaii.edu/bio.assess.asp" TargetMode="External"/><Relationship Id="rId8" Type="http://schemas.openxmlformats.org/officeDocument/2006/relationships/hyperlink" Target="http://www.eia.doe.gov/kids/energyfacts/sources/IntermediateHydrogen.html" TargetMode="External"/><Relationship Id="rId9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4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467"/>
                </a:solidFill>
                <a:latin typeface="Times New Roman"/>
              </a:rPr>
              <a:t>Alternative Sources of Energy and The Global Community</a:t>
            </a:r>
            <a:endParaRPr b="1" lang="en-US" sz="4000" spc="-1" strike="noStrike">
              <a:solidFill>
                <a:srgbClr val="ffd467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2666880" cy="151128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3"/>
          <a:stretch/>
        </p:blipFill>
        <p:spPr>
          <a:xfrm>
            <a:off x="6324480" y="2133720"/>
            <a:ext cx="2438640" cy="16542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4"/>
          <a:stretch/>
        </p:blipFill>
        <p:spPr>
          <a:xfrm>
            <a:off x="3124080" y="1676520"/>
            <a:ext cx="2881440" cy="28558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5"/>
          <a:stretch/>
        </p:blipFill>
        <p:spPr>
          <a:xfrm>
            <a:off x="3429000" y="4724280"/>
            <a:ext cx="2362320" cy="150336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6"/>
          <a:stretch/>
        </p:blipFill>
        <p:spPr>
          <a:xfrm>
            <a:off x="6248520" y="4343400"/>
            <a:ext cx="2666880" cy="183996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7"/>
          <a:stretch/>
        </p:blipFill>
        <p:spPr>
          <a:xfrm>
            <a:off x="304920" y="4267080"/>
            <a:ext cx="2666880" cy="191304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2362320" y="632448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467"/>
                </a:solidFill>
                <a:latin typeface="Times New Roman"/>
              </a:rPr>
              <a:t>kuranaka09, snakamoto09, kflee09, schen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467"/>
              </a:solidFill>
              <a:latin typeface="Times New Roman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28600" y="1219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ean energy source; renewable energy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es not produce air or water pollution, no fuel bur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0"/>
            <a:ext cx="160020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920" y="4940280"/>
            <a:ext cx="883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earing of wooded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rds killed by wind turbine; one bird is killed per turbine per year; 10 million per year are killed by cars al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esthe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15048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3962520" y="4114800"/>
            <a:ext cx="1523880" cy="7621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3962520" cy="172908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066680" y="0"/>
            <a:ext cx="2133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920" y="762120"/>
            <a:ext cx="4114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lamilo Kohala, Big Is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ama’ao South Point, Big Is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wi Upolu Point, Big Is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aheawa Pastures Ukumehame, Mau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ahe Ridge Nanakuli, Oah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6248520" y="0"/>
            <a:ext cx="2895480" cy="206676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4"/>
          <a:stretch/>
        </p:blipFill>
        <p:spPr>
          <a:xfrm>
            <a:off x="0" y="3886200"/>
            <a:ext cx="4572000" cy="23274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5"/>
          <a:stretch/>
        </p:blipFill>
        <p:spPr>
          <a:xfrm>
            <a:off x="4495680" y="4761000"/>
            <a:ext cx="3124440" cy="20970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6"/>
          <a:stretch/>
        </p:blipFill>
        <p:spPr>
          <a:xfrm>
            <a:off x="5715000" y="3200400"/>
            <a:ext cx="3429000" cy="21747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0" y="6248520"/>
            <a:ext cx="4495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11111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Times New Roman"/>
              </a:rPr>
              <a:t>Ultimate wind production increa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2895480"/>
            <a:ext cx="21337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209680" y="2666880"/>
            <a:ext cx="464832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11111"/>
                </a:solidFill>
                <a:latin typeface="Times New Roman"/>
              </a:rPr>
              <a:t>Solar Power</a:t>
            </a:r>
            <a:endParaRPr b="1" lang="en-US" sz="6600" spc="-1" strike="noStrike">
              <a:solidFill>
                <a:srgbClr val="ffd4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1523520" y="2133720"/>
            <a:ext cx="6705720" cy="266688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187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187"/>
                </a:solidFill>
                <a:latin typeface="Arial"/>
              </a:rPr>
              <a:t>3 Ways Solar Power i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118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187"/>
                </a:solidFill>
                <a:latin typeface="Arial"/>
              </a:rPr>
              <a:t>Solar Cells (photovoltaic cel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118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187"/>
                </a:solidFill>
                <a:latin typeface="Arial"/>
              </a:rPr>
              <a:t>Solar Water He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118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187"/>
                </a:solidFill>
                <a:latin typeface="Arial"/>
              </a:rPr>
              <a:t>Solar Furna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118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187"/>
                </a:solidFill>
                <a:latin typeface="Arial"/>
              </a:rPr>
              <a:t>Also considering building solar t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2438280" y="152280"/>
            <a:ext cx="426744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187"/>
                </a:solidFill>
                <a:latin typeface="Arial"/>
              </a:rPr>
              <a:t>How it works…</a:t>
            </a:r>
            <a:endParaRPr b="1" lang="en-US" sz="4400" spc="-1" strike="noStrike">
              <a:solidFill>
                <a:srgbClr val="ffd4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2361960" cy="7621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1fc4"/>
                </a:solidFill>
                <a:latin typeface="Times New Roman"/>
              </a:rPr>
              <a:t>Pros</a:t>
            </a:r>
            <a:endParaRPr b="1" lang="en-US" sz="4400" spc="-1" strike="noStrike">
              <a:solidFill>
                <a:srgbClr val="ffd467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886200" cy="144792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fc4"/>
                </a:solidFill>
                <a:latin typeface="Arial"/>
              </a:rPr>
              <a:t>Does not require fu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fc4"/>
                </a:solidFill>
                <a:latin typeface="Arial"/>
              </a:rPr>
              <a:t>Does not produce waste or pol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fc4"/>
                </a:solidFill>
                <a:latin typeface="Arial"/>
              </a:rPr>
              <a:t>Renewable energy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294156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3"/>
          <a:stretch/>
        </p:blipFill>
        <p:spPr>
          <a:xfrm>
            <a:off x="0" y="3780000"/>
            <a:ext cx="5334120" cy="307800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5943600" y="3429000"/>
            <a:ext cx="2362320" cy="7621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1fc4"/>
                </a:solidFill>
                <a:latin typeface="Times New Roman"/>
              </a:rPr>
              <a:t>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62720" y="4419720"/>
            <a:ext cx="320040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fc4"/>
                </a:solidFill>
                <a:latin typeface="Arial"/>
              </a:rPr>
              <a:t>needs a very large area of solar panels to collect a useful amount of pow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fc4"/>
                </a:solidFill>
                <a:latin typeface="Arial"/>
              </a:rPr>
              <a:t>does not work at n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fc4"/>
                </a:solidFill>
                <a:latin typeface="Arial"/>
              </a:rPr>
              <a:t>Weather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fc4"/>
                </a:solidFill>
                <a:latin typeface="Arial"/>
              </a:rPr>
              <a:t>expensive to build solar power st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327636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71fc4"/>
                </a:solidFill>
                <a:latin typeface="Times New Roman"/>
              </a:rPr>
              <a:t>Hawaii</a:t>
            </a:r>
            <a:endParaRPr b="1" lang="en-US" sz="3800" spc="-1" strike="noStrike">
              <a:solidFill>
                <a:srgbClr val="ffd467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0" y="4343040"/>
            <a:ext cx="4191120" cy="251460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71fc4"/>
                </a:solidFill>
                <a:latin typeface="Times New Roman"/>
              </a:rPr>
              <a:t>highest electricity prices in the n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71fc4"/>
                </a:solidFill>
                <a:latin typeface="Times New Roman"/>
              </a:rPr>
              <a:t>state increased credit for single-family residential PV systems to $5,000 while commercial photovoltaics are now $500,000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71fc4"/>
                </a:solidFill>
                <a:latin typeface="Times New Roman"/>
              </a:rPr>
              <a:t>one of most successful solar water heating programs in n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71fc4"/>
                </a:solidFill>
                <a:latin typeface="Times New Roman"/>
              </a:rPr>
              <a:t>85 MW Solar Energy in Big Island, Maui, and Oahu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0" y="0"/>
            <a:ext cx="480060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Around the World…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5105520" y="3505320"/>
            <a:ext cx="3124080" cy="185868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5611680" y="914400"/>
            <a:ext cx="2335320" cy="251460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4419720" y="5410080"/>
            <a:ext cx="4724280" cy="144792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Worldwide production reached 1.46 Gigawatts in 2005, and is doubling every 3 year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Has been increased interest in solar energy; numerous countries are considering ide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523880" y="2666880"/>
            <a:ext cx="601992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d467"/>
                </a:solidFill>
                <a:latin typeface="Times New Roman"/>
              </a:rPr>
              <a:t>Biomass Energy</a:t>
            </a:r>
            <a:endParaRPr b="1" lang="en-US" sz="6600" spc="-1" strike="noStrike">
              <a:solidFill>
                <a:srgbClr val="ffd4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2514600" y="2590920"/>
          <a:ext cx="3886200" cy="1854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2590920"/>
                    <a:ext cx="3886200" cy="1854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55" dir="81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2666880" y="4724280"/>
            <a:ext cx="36576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OW ENERGY EXTRA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hermochem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Biochem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hem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14400" y="129528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iomass is matter thought of as “garbage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cludes paper products that cannot be recycled into other paper products and normal household waste that is sent to the du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w it Work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523880" y="380880"/>
            <a:ext cx="160020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" y="1371600"/>
            <a:ext cx="4114800" cy="175248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s as fertilizer for replan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proves air quality; reduces pollu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proves water qua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duce dependence on o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029200" y="5638680"/>
            <a:ext cx="4114800" cy="60984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uld cause global war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943600" y="4724280"/>
            <a:ext cx="198108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0" y="3773520"/>
            <a:ext cx="4648320" cy="308448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3"/>
          <a:stretch/>
        </p:blipFill>
        <p:spPr>
          <a:xfrm>
            <a:off x="5403960" y="0"/>
            <a:ext cx="37400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5943600" y="4172040"/>
            <a:ext cx="3200400" cy="268596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3505320" y="533520"/>
            <a:ext cx="2133360" cy="99036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awa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819520" y="37339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es not have a fuel pl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57400" y="31240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urce of renewable energy in Hawai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4"/>
          <a:stretch/>
        </p:blipFill>
        <p:spPr>
          <a:xfrm>
            <a:off x="0" y="4157640"/>
            <a:ext cx="2895480" cy="270036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71800" y="4533840"/>
            <a:ext cx="2895480" cy="23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ut Department of Business and Economic Development and Tourism completes assessments of the different biomass energy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04760" y="2666880"/>
            <a:ext cx="563868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71fc4"/>
                </a:solidFill>
                <a:latin typeface="Times New Roman"/>
              </a:rPr>
              <a:t>Water Power</a:t>
            </a:r>
            <a:endParaRPr b="1" lang="en-US" sz="6600" spc="-1" strike="noStrike">
              <a:solidFill>
                <a:srgbClr val="ffd4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828800" y="2438280"/>
            <a:ext cx="594360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71fc4"/>
                </a:solidFill>
                <a:latin typeface="Times New Roman"/>
              </a:rPr>
              <a:t>Nuclear Energy</a:t>
            </a:r>
            <a:endParaRPr b="1" lang="en-US" sz="6600" spc="-1" strike="noStrike">
              <a:solidFill>
                <a:srgbClr val="ffd4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Work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4572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s energy so work can be accomplished: propulsion, heat, generation of electri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-235 is so concentrated that nuclear fission occurs—uranium enriched so contains 2-3% or more of U-2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Fuel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3857760" cy="381960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1981080" y="5334120"/>
            <a:ext cx="5715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929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/>
          </p:nvPr>
        </p:nvSpPr>
        <p:spPr>
          <a:xfrm>
            <a:off x="-380880" y="1904760"/>
            <a:ext cx="4876560" cy="434340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quire less fu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es not release contaminants into environment when well oper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mits little or no carbon diox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uclear technology already available; does not require development first in order to proce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igh amounts of energy;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ton of uranium produces energy greater than the energy produced by several million tons of coal or several million barrels of o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title"/>
          </p:nvPr>
        </p:nvSpPr>
        <p:spPr>
          <a:xfrm>
            <a:off x="1066320" y="685800"/>
            <a:ext cx="259092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s</a:t>
            </a:r>
            <a:endParaRPr b="1" lang="en-US" sz="4400" spc="-1" strike="noStrike">
              <a:solidFill>
                <a:srgbClr val="ffd467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4800600" y="1905120"/>
            <a:ext cx="4343400" cy="335268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radioactive contamin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use nuclear energy for proliferation of nuclear weap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possibility if nuclear reactor undergoes meltd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waste disposal probl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reactors not long la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could become targets for sabotage, terrorist atta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limited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take long time to build many pl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410080" y="685800"/>
            <a:ext cx="274320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4"/>
          <a:srcRect l="0" t="0" r="0" b="42528"/>
          <a:stretch/>
        </p:blipFill>
        <p:spPr>
          <a:xfrm>
            <a:off x="4648320" y="0"/>
            <a:ext cx="1295280" cy="11001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5"/>
          <a:srcRect l="0" t="0" r="0" b="42528"/>
          <a:stretch/>
        </p:blipFill>
        <p:spPr>
          <a:xfrm>
            <a:off x="4648320" y="5757840"/>
            <a:ext cx="1295280" cy="11001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6"/>
          <a:srcRect l="0" t="0" r="0" b="42528"/>
          <a:stretch/>
        </p:blipFill>
        <p:spPr>
          <a:xfrm>
            <a:off x="7848720" y="0"/>
            <a:ext cx="1295280" cy="110016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7"/>
          <a:srcRect l="0" t="0" r="0" b="42528"/>
          <a:stretch/>
        </p:blipFill>
        <p:spPr>
          <a:xfrm>
            <a:off x="7848720" y="5757840"/>
            <a:ext cx="12952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2"/>
          <a:srcRect l="1595" t="1395" r="4404" b="53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3"/>
          <a:stretch/>
        </p:blipFill>
        <p:spPr>
          <a:xfrm>
            <a:off x="5486400" y="4468680"/>
            <a:ext cx="3657600" cy="238932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362320" y="380880"/>
            <a:ext cx="495288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ound the World</a:t>
            </a:r>
            <a:endParaRPr b="1" lang="en-US" sz="4400" spc="-1" strike="noStrike">
              <a:solidFill>
                <a:srgbClr val="ffd467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28240" y="4800600"/>
            <a:ext cx="4343400" cy="175248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uary 2007: 30 countries operating 435 nuclear reactors for electri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 new plants under construction in 12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th Korea and Ir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94920" y="2514600"/>
            <a:ext cx="617220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Hydrogen Gas</a:t>
            </a:r>
            <a:endParaRPr b="1" lang="en-US" sz="6600" spc="-1" strike="noStrike">
              <a:solidFill>
                <a:srgbClr val="ffd4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99036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d467"/>
                </a:solidFill>
                <a:latin typeface="Times New Roman"/>
              </a:rPr>
              <a:t>Geothermal Energy</a:t>
            </a:r>
            <a:endParaRPr b="1" lang="en-US" sz="6600" spc="-1" strike="noStrike">
              <a:solidFill>
                <a:srgbClr val="ffd4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685800" y="1828800"/>
            <a:ext cx="7924680" cy="356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heco.com/vcmcontent/FileScan/PDFConvert/giovanni.pd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state.hi.us/dbedt/ert/wwg/history.html</a:t>
            </a:r>
            <a:br>
              <a:rPr sz="1200"/>
            </a:b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power-technology.com/projects/hawaii/</a:t>
            </a:r>
            <a:br>
              <a:rPr sz="1200"/>
            </a:b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eia.doe.gov/kids/energyfacts/sources/renewable/wind.html</a:t>
            </a:r>
            <a:br>
              <a:rPr sz="1200"/>
            </a:b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solcomhouse.com/windpower.htm</a:t>
            </a:r>
            <a:br>
              <a:rPr sz="1200"/>
            </a:b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telosnet.com/wind/future.html</a:t>
            </a:r>
            <a:br>
              <a:rPr sz="1200"/>
            </a:b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powerscorecard.org/tech_detail.cfm?resource_id=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home.clara.net/darvill/altenerg/solar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scienceclarified.com/Al-As/Alternative-Energy-Sources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en.wikipedia.org/wiki/Renewable_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forsolar.org/?q=node/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hawaiisenergyfutur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lomaprieta.sierraclub.org/greenpower/renewabletech.htm#Geothe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nei.or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library.thinkquest.org/3471/nuclear_energy_body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home.clara.net/darvill/altenerg/images/MarineTurbines.jp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earthsci.org/mineral/energy/hydro/hydroplant-animate.gi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img.search.com/thumb/a/a4/Water_turbine.jpg/260px-Water_turbine.jp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imes New Roman"/>
              </a:rPr>
              <a:t>Bibliography</a:t>
            </a:r>
            <a:endParaRPr b="1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609480" y="2133720"/>
            <a:ext cx="7925040" cy="356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navitron.org.uk/Dam.jp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en.wikipedia.org/wiki/Water_p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discoverychannel.co.uk/technology/alternative_energy/water/index.s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library.thinkquest.org/26366/text/alternative/otec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rise.org.au/info/Tech/geo/index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gc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flyaway.canalblog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worldchanging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ecolo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energy.iastate.ed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scienceacross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hawaii-count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mccullagh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liv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alternate-energy-source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theage.com.a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csusm.ed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art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212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ibli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76320" y="1828800"/>
            <a:ext cx="9067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12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Chapter 10: biomass energy.” </a:t>
            </a:r>
            <a:r>
              <a:rPr b="0" lang="en-US" sz="1400" spc="-1" strike="noStrike" u="sng">
                <a:solidFill>
                  <a:srgbClr val="212164"/>
                </a:solidFill>
                <a:uFillTx/>
                <a:latin typeface="Times New Roman"/>
              </a:rPr>
              <a:t>Energy Story.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 April, 22, 2002.  California Energy Commission.  March 26, 2007 </a:t>
            </a:r>
            <a:r>
              <a:rPr b="0" lang="en-US" sz="1400" spc="-1" strike="noStrike" u="sng">
                <a:solidFill>
                  <a:srgbClr val="995421"/>
                </a:solidFill>
                <a:uFillTx/>
                <a:latin typeface="Times New Roman"/>
                <a:hlinkClick r:id="rId1"/>
              </a:rPr>
              <a:t>http://www.energyquest.ca.gov/story/index.html#table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12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How Biomass Works.” </a:t>
            </a:r>
            <a:r>
              <a:rPr b="0" lang="en-US" sz="1400" spc="-1" strike="noStrike" u="sng">
                <a:solidFill>
                  <a:srgbClr val="212164"/>
                </a:solidFill>
                <a:uFillTx/>
                <a:latin typeface="Times New Roman"/>
              </a:rPr>
              <a:t>Clean Energy.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  8/26/06.  Union of Concerned Scientists.  March 26, 2007 </a:t>
            </a:r>
            <a:r>
              <a:rPr b="0" lang="en-US" sz="1400" spc="-1" strike="noStrike" u="sng">
                <a:solidFill>
                  <a:srgbClr val="995421"/>
                </a:solidFill>
                <a:uFillTx/>
                <a:latin typeface="Times New Roman"/>
                <a:hlinkClick r:id="rId2"/>
              </a:rPr>
              <a:t>http://www.ucsusa.org/clean_energy/renewable_energy_basics/offmen-how-</a:t>
            </a:r>
            <a:r>
              <a:rPr b="0" lang="en-US" sz="1400" spc="-1" strike="noStrike" u="sng">
                <a:solidFill>
                  <a:srgbClr val="995421"/>
                </a:solidFill>
                <a:uFillTx/>
                <a:latin typeface="Times New Roman"/>
                <a:hlinkClick r:id="rId3"/>
              </a:rPr>
              <a:t> biomass-energy-</a:t>
            </a:r>
            <a:r>
              <a:rPr b="0" lang="en-US" sz="1400" spc="-1" strike="noStrike" u="sng">
                <a:solidFill>
                  <a:srgbClr val="995421"/>
                </a:solidFill>
                <a:uFillTx/>
                <a:latin typeface="Times New Roman"/>
                <a:hlinkClick r:id="rId4"/>
              </a:rPr>
              <a:t>works.html#Converting_Biomass_to_Energy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12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212164"/>
                </a:solidFill>
                <a:uFillTx/>
                <a:latin typeface="Times New Roman"/>
              </a:rPr>
              <a:t>Planet Power Energy and the Environment.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  Common Purpose Institute.  March 26, 2007 </a:t>
            </a:r>
            <a:r>
              <a:rPr b="0" lang="en-US" sz="1400" spc="-1" strike="noStrike" u="sng">
                <a:solidFill>
                  <a:srgbClr val="995421"/>
                </a:solidFill>
                <a:uFillTx/>
                <a:latin typeface="Times New Roman"/>
                <a:hlinkClick r:id="rId5"/>
              </a:rPr>
              <a:t>http://www.treepower.org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12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Biomass Resources for Hydrogen Production via Gasification.”    </a:t>
            </a:r>
            <a:r>
              <a:rPr b="0" lang="en-US" sz="1400" spc="-1" strike="noStrike" u="sng">
                <a:solidFill>
                  <a:srgbClr val="212164"/>
                </a:solidFill>
                <a:uFillTx/>
                <a:latin typeface="Times New Roman"/>
              </a:rPr>
              <a:t>University of Hawaii at Manoa Hawaii Natural Energy Institute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.  December 9 2004. Hawaii Natural Energy Institute.  March 26, 2007 </a:t>
            </a:r>
            <a:r>
              <a:rPr b="0" lang="en-US" sz="1400" spc="-1" strike="noStrike" u="sng">
                <a:solidFill>
                  <a:srgbClr val="995421"/>
                </a:solidFill>
                <a:uFillTx/>
                <a:latin typeface="Times New Roman"/>
                <a:hlinkClick r:id="rId6"/>
              </a:rPr>
              <a:t>http://</a:t>
            </a:r>
            <a:r>
              <a:rPr b="0" lang="en-US" sz="1400" spc="-1" strike="noStrike" u="sng">
                <a:solidFill>
                  <a:srgbClr val="995421"/>
                </a:solidFill>
                <a:uFillTx/>
                <a:latin typeface="Times New Roman"/>
                <a:hlinkClick r:id="rId7"/>
              </a:rPr>
              <a:t>www.hnei.hawaii.edu/bio.assess.asp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12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Hydrogen.” </a:t>
            </a:r>
            <a:r>
              <a:rPr b="0" lang="en-US" sz="1400" spc="-1" strike="noStrike" u="sng">
                <a:solidFill>
                  <a:srgbClr val="212164"/>
                </a:solidFill>
                <a:uFillTx/>
                <a:latin typeface="Times New Roman"/>
              </a:rPr>
              <a:t>Energy Information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. December 2006.  National Energy Education Development Project.  March 27, 2007 </a:t>
            </a:r>
            <a:r>
              <a:rPr b="0" lang="en-US" sz="1400" spc="-1" strike="noStrike" u="sng">
                <a:solidFill>
                  <a:srgbClr val="995421"/>
                </a:solidFill>
                <a:uFillTx/>
                <a:latin typeface="Times New Roman"/>
                <a:hlinkClick r:id="rId8"/>
              </a:rPr>
              <a:t>http://www.eia.doe.gov/kids/energyfacts/sources/IntermediateHydrogen.html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12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Hydrogen Facts.” </a:t>
            </a:r>
            <a:r>
              <a:rPr b="0" lang="en-US" sz="1400" spc="-1" strike="noStrike" u="sng">
                <a:solidFill>
                  <a:srgbClr val="212164"/>
                </a:solidFill>
                <a:uFillTx/>
                <a:latin typeface="Times New Roman"/>
              </a:rPr>
              <a:t>Consumer Energy Council of America Leadership on Essential Services for Consumers.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  2000.  Consumer Energy Council of America.  March 27, 2007.  </a:t>
            </a:r>
            <a:r>
              <a:rPr b="0" lang="en-US" sz="1400" spc="-1" strike="noStrike" u="sng">
                <a:solidFill>
                  <a:srgbClr val="212164"/>
                </a:solidFill>
                <a:uFillTx/>
                <a:latin typeface="Times New Roman"/>
              </a:rPr>
              <a:t>http://www.cecarf.org/Programs/Fuels/Fuelfacts/HydrogenFacts.html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ibli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111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What is 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1111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Hydroelectric Power S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11111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Eg. </a:t>
            </a:r>
            <a:r>
              <a:rPr b="1" lang="en-US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River power plants, storage power plants, pumped storage power plants, tidal power stations, wave power st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Po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29200" y="37339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111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River Power Plant D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54080" y="1447920"/>
            <a:ext cx="3655800" cy="380988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it Works…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3962520" y="1450800"/>
            <a:ext cx="5181480" cy="38833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762120" y="57913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neral layout of Hydropower Plant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it Works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480" y="54100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ave Power 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838080" y="2133720"/>
          <a:ext cx="3505320" cy="2557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3505320" cy="25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"/>
          <p:cNvGraphicFramePr/>
          <p:nvPr/>
        </p:nvGraphicFramePr>
        <p:xfrm>
          <a:off x="4952880" y="1828800"/>
          <a:ext cx="3211560" cy="3352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1828800"/>
                    <a:ext cx="32115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"/>
          <p:cNvSpPr/>
          <p:nvPr/>
        </p:nvSpPr>
        <p:spPr>
          <a:xfrm>
            <a:off x="4724280" y="54100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idal Power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nvironmental Impa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1066680"/>
            <a:ext cx="4876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-cost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harmful emissions or C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power: 95% ef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876920" y="1066680"/>
            <a:ext cx="3886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8600" indent="-156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major o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8600" indent="-156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oir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8600" indent="-156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l 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029200" y="3352680"/>
            <a:ext cx="3886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wa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l 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029200" y="5029200"/>
            <a:ext cx="3886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nd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ement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s/Oc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41911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361960" y="2895480"/>
            <a:ext cx="480060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ind Power</a:t>
            </a:r>
            <a:endParaRPr b="1" lang="en-US" sz="6600" spc="-1" strike="noStrike">
              <a:solidFill>
                <a:srgbClr val="ffd4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457200" y="15238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lades collect the wind’s kinetic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6400800" y="2590920"/>
            <a:ext cx="2496960" cy="2514600"/>
          </a:xfrm>
          <a:prstGeom prst="rect">
            <a:avLst/>
          </a:prstGeom>
          <a:ln w="0">
            <a:noFill/>
          </a:ln>
        </p:spPr>
      </p:pic>
      <p:pic>
        <p:nvPicPr>
          <p:cNvPr id="652" name="ani111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3352680" cy="235584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4495680" y="2819520"/>
            <a:ext cx="198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blades are connected to a drive shaft that turns an electric generator to produce electrici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" y="220968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wind flows over the shaped blades causing lift, causing them to tu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190760" y="1218960"/>
            <a:ext cx="3886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ow it work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0560" cy="685800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495288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ertical/Horizontal</a:t>
            </a:r>
            <a:endParaRPr b="1" lang="en-US" sz="4400" spc="-1" strike="noStrike">
              <a:solidFill>
                <a:srgbClr val="ffd467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5305320"/>
            <a:ext cx="4038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-3 bl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oser to ground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lower sp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0532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peller-type r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ner-type air m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6:07:46Z</dcterms:created>
  <dc:creator>Maemae Elem. ESLL Program</dc:creator>
  <dc:description/>
  <dc:language>en-US</dc:language>
  <cp:lastModifiedBy> </cp:lastModifiedBy>
  <dcterms:modified xsi:type="dcterms:W3CDTF">2007-04-05T06:27:06Z</dcterms:modified>
  <cp:revision>87</cp:revision>
  <dc:subject/>
  <dc:title>PowerPoint Presentation</dc:title>
</cp:coreProperties>
</file>